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48B-1569-4DDD-B79B-7B1B4B17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69F-9A69-4FAC-A470-016CC5F7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29F-9414-466E-AC02-F7159111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566-BDD0-4A42-8F6F-439484FE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043-07F8-4DF0-8CC5-64315B39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BAA-D349-43A5-A227-95F29F63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145-B771-4908-983F-0E31B7F1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1AD-2664-402E-8D0C-85E7958F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353-7FE4-4F8F-85C8-7559FAE6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8BB-48D1-4479-B533-EC481767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130-F1D7-47FA-97AD-4EA075D5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531-40F2-4F99-A93E-5CFA2B0B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F376-269E-4130-B950-9DECF34C78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62320" y="990720"/>
            <a:ext cx="4571640" cy="4571640"/>
            <a:chOff x="2362320" y="990720"/>
            <a:chExt cx="4571640" cy="4571640"/>
          </a:xfrm>
        </p:grpSpPr>
        <p:grpSp>
          <p:nvGrpSpPr>
            <p:cNvPr id="42" name=""/>
            <p:cNvGrpSpPr/>
            <p:nvPr/>
          </p:nvGrpSpPr>
          <p:grpSpPr>
            <a:xfrm>
              <a:off x="2362320" y="990720"/>
              <a:ext cx="4571640" cy="457200"/>
              <a:chOff x="2362320" y="990720"/>
              <a:chExt cx="4571640" cy="457200"/>
            </a:xfrm>
          </p:grpSpPr>
          <p:sp>
            <p:nvSpPr>
              <p:cNvPr id="43" name=""/>
              <p:cNvSpPr/>
              <p:nvPr/>
            </p:nvSpPr>
            <p:spPr>
              <a:xfrm>
                <a:off x="2362320" y="9907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819520" y="9907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276720" y="9907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733920" y="9907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191120" y="9907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48320" y="9907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05520" y="9907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562720" y="9907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19920" y="9907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477120" y="9907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362320" y="1447920"/>
              <a:ext cx="4571640" cy="456840"/>
              <a:chOff x="2362320" y="1447920"/>
              <a:chExt cx="4571640" cy="456840"/>
            </a:xfrm>
          </p:grpSpPr>
          <p:sp>
            <p:nvSpPr>
              <p:cNvPr id="54" name=""/>
              <p:cNvSpPr/>
              <p:nvPr/>
            </p:nvSpPr>
            <p:spPr>
              <a:xfrm>
                <a:off x="2362320" y="14479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819520" y="14479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76720" y="14479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33920" y="14479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191120" y="14479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48320" y="14479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05520" y="14479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562720" y="14479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019920" y="14479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477120" y="14479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2362320" y="1905120"/>
              <a:ext cx="4571640" cy="457200"/>
              <a:chOff x="2362320" y="1905120"/>
              <a:chExt cx="4571640" cy="457200"/>
            </a:xfrm>
          </p:grpSpPr>
          <p:sp>
            <p:nvSpPr>
              <p:cNvPr id="65" name=""/>
              <p:cNvSpPr/>
              <p:nvPr/>
            </p:nvSpPr>
            <p:spPr>
              <a:xfrm>
                <a:off x="2362320" y="19051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19520" y="19051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276720" y="19051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33920" y="19051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191120" y="19051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648320" y="19051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05520" y="19051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562720" y="19051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19920" y="19051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477120" y="19051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2362320" y="2362320"/>
              <a:ext cx="4571640" cy="456840"/>
              <a:chOff x="2362320" y="2362320"/>
              <a:chExt cx="4571640" cy="45684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23623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19520" y="23623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76720" y="23623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33920" y="23623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91120" y="23623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648320" y="23623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105520" y="23623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62720" y="23623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19920" y="23623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77120" y="23623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362320" y="2819520"/>
              <a:ext cx="4571640" cy="457200"/>
              <a:chOff x="2362320" y="2819520"/>
              <a:chExt cx="4571640" cy="457200"/>
            </a:xfrm>
          </p:grpSpPr>
          <p:sp>
            <p:nvSpPr>
              <p:cNvPr id="87" name=""/>
              <p:cNvSpPr/>
              <p:nvPr/>
            </p:nvSpPr>
            <p:spPr>
              <a:xfrm>
                <a:off x="2362320" y="28195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819520" y="28195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276720" y="28195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33920" y="28195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191120" y="28195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48320" y="28195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105520" y="28195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62720" y="28195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19920" y="28195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28195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362320" y="3276720"/>
              <a:ext cx="4571640" cy="456840"/>
              <a:chOff x="2362320" y="3276720"/>
              <a:chExt cx="4571640" cy="456840"/>
            </a:xfrm>
          </p:grpSpPr>
          <p:sp>
            <p:nvSpPr>
              <p:cNvPr id="98" name=""/>
              <p:cNvSpPr/>
              <p:nvPr/>
            </p:nvSpPr>
            <p:spPr>
              <a:xfrm>
                <a:off x="2362320" y="32767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19520" y="32767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276720" y="32767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33920" y="32767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191120" y="32767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48320" y="32767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05520" y="32767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62720" y="32767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019920" y="32767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477120" y="32767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362320" y="3733920"/>
              <a:ext cx="4571640" cy="457200"/>
              <a:chOff x="2362320" y="3733920"/>
              <a:chExt cx="4571640" cy="457200"/>
            </a:xfrm>
          </p:grpSpPr>
          <p:sp>
            <p:nvSpPr>
              <p:cNvPr id="109" name=""/>
              <p:cNvSpPr/>
              <p:nvPr/>
            </p:nvSpPr>
            <p:spPr>
              <a:xfrm>
                <a:off x="2362320" y="37339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819520" y="37339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720" y="37339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33920" y="37339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91120" y="37339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48320" y="37339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105520" y="37339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62720" y="37339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019920" y="37339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77120" y="37339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362320" y="4191120"/>
              <a:ext cx="4571640" cy="456840"/>
              <a:chOff x="2362320" y="4191120"/>
              <a:chExt cx="4571640" cy="456840"/>
            </a:xfrm>
          </p:grpSpPr>
          <p:sp>
            <p:nvSpPr>
              <p:cNvPr id="120" name=""/>
              <p:cNvSpPr/>
              <p:nvPr/>
            </p:nvSpPr>
            <p:spPr>
              <a:xfrm>
                <a:off x="2362320" y="41911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19520" y="41911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6720" y="41911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920" y="41911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91120" y="41911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8320" y="41911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05520" y="41911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62720" y="41911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19920" y="41911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77120" y="41911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362320" y="4648320"/>
              <a:ext cx="4571640" cy="457200"/>
              <a:chOff x="2362320" y="4648320"/>
              <a:chExt cx="4571640" cy="457200"/>
            </a:xfrm>
          </p:grpSpPr>
          <p:sp>
            <p:nvSpPr>
              <p:cNvPr id="131" name=""/>
              <p:cNvSpPr/>
              <p:nvPr/>
            </p:nvSpPr>
            <p:spPr>
              <a:xfrm>
                <a:off x="2362320" y="46483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819520" y="46483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76720" y="46483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733920" y="46483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91120" y="46483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48320" y="46483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05520" y="46483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62720" y="46483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464832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477120" y="464832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362320" y="5105520"/>
              <a:ext cx="4571640" cy="456840"/>
              <a:chOff x="2362320" y="5105520"/>
              <a:chExt cx="4571640" cy="456840"/>
            </a:xfrm>
          </p:grpSpPr>
          <p:sp>
            <p:nvSpPr>
              <p:cNvPr id="142" name=""/>
              <p:cNvSpPr/>
              <p:nvPr/>
            </p:nvSpPr>
            <p:spPr>
              <a:xfrm>
                <a:off x="2362320" y="51055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19520" y="51055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76720" y="51055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33920" y="51055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91120" y="51055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48320" y="51055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05520" y="51055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62720" y="51055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19920" y="510552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77120" y="510552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1600200" y="0"/>
            <a:ext cx="579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6699"/>
                </a:solidFill>
                <a:latin typeface="Tempus Sans ITC"/>
              </a:rPr>
              <a:t>Completa il puzz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5791320"/>
            <a:ext cx="5257800" cy="8251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empus Sans ITC"/>
              </a:rPr>
              <a:t>Numeri da 1 a 9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1382760" cy="913680"/>
            <a:chOff x="0" y="0"/>
            <a:chExt cx="1382760" cy="913680"/>
          </a:xfrm>
        </p:grpSpPr>
        <p:grpSp>
          <p:nvGrpSpPr>
            <p:cNvPr id="155" name=""/>
            <p:cNvGrpSpPr/>
            <p:nvPr/>
          </p:nvGrpSpPr>
          <p:grpSpPr>
            <a:xfrm>
              <a:off x="0" y="0"/>
              <a:ext cx="1352160" cy="913680"/>
              <a:chOff x="0" y="0"/>
              <a:chExt cx="1352160" cy="913680"/>
            </a:xfrm>
          </p:grpSpPr>
          <p:sp>
            <p:nvSpPr>
              <p:cNvPr id="156" name=""/>
              <p:cNvSpPr/>
              <p:nvPr/>
            </p:nvSpPr>
            <p:spPr>
              <a:xfrm>
                <a:off x="450720" y="0"/>
                <a:ext cx="4507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456840"/>
                <a:ext cx="4507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0720" y="456840"/>
                <a:ext cx="4507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1440" y="456840"/>
                <a:ext cx="4507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22360" y="88920"/>
              <a:ext cx="335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74800" y="513000"/>
              <a:ext cx="50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280" y="538200"/>
              <a:ext cx="4572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320" y="551160"/>
              <a:ext cx="457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20" y="3276720"/>
            <a:ext cx="1828800" cy="1364040"/>
            <a:chOff x="304920" y="3276720"/>
            <a:chExt cx="1828800" cy="1364040"/>
          </a:xfrm>
        </p:grpSpPr>
        <p:grpSp>
          <p:nvGrpSpPr>
            <p:cNvPr id="165" name=""/>
            <p:cNvGrpSpPr/>
            <p:nvPr/>
          </p:nvGrpSpPr>
          <p:grpSpPr>
            <a:xfrm>
              <a:off x="322560" y="3276720"/>
              <a:ext cx="1810440" cy="1364040"/>
              <a:chOff x="322560" y="3276720"/>
              <a:chExt cx="1810440" cy="1364040"/>
            </a:xfrm>
          </p:grpSpPr>
          <p:sp>
            <p:nvSpPr>
              <p:cNvPr id="166" name=""/>
              <p:cNvSpPr/>
              <p:nvPr/>
            </p:nvSpPr>
            <p:spPr>
              <a:xfrm>
                <a:off x="322560" y="327672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5080" y="327672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5080" y="373140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27960" y="373140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27960" y="418608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80480" y="418608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676520" y="4258440"/>
              <a:ext cx="4572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19320" y="4258440"/>
              <a:ext cx="4572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19320" y="3794760"/>
              <a:ext cx="53352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120" y="3794760"/>
              <a:ext cx="4572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3331440"/>
              <a:ext cx="4572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920" y="3331440"/>
              <a:ext cx="4572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0" y="1219320"/>
            <a:ext cx="1828800" cy="1828080"/>
            <a:chOff x="0" y="1219320"/>
            <a:chExt cx="1828800" cy="1828080"/>
          </a:xfrm>
        </p:grpSpPr>
        <p:grpSp>
          <p:nvGrpSpPr>
            <p:cNvPr id="179" name=""/>
            <p:cNvGrpSpPr/>
            <p:nvPr/>
          </p:nvGrpSpPr>
          <p:grpSpPr>
            <a:xfrm>
              <a:off x="0" y="1219320"/>
              <a:ext cx="1828080" cy="1828080"/>
              <a:chOff x="0" y="1219320"/>
              <a:chExt cx="1828080" cy="1828080"/>
            </a:xfrm>
          </p:grpSpPr>
          <p:sp>
            <p:nvSpPr>
              <p:cNvPr id="180" name=""/>
              <p:cNvSpPr/>
              <p:nvPr/>
            </p:nvSpPr>
            <p:spPr>
              <a:xfrm>
                <a:off x="914040" y="12193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371240" y="12193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14040" y="167616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6840" y="167616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167616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14040" y="213336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6840" y="213336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14040" y="259056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914400" y="12956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12956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4400" y="17528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4400" y="22100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4400" y="25909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" y="17528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17528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22100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495680" y="228600"/>
            <a:ext cx="1828080" cy="1828080"/>
            <a:chOff x="4495680" y="228600"/>
            <a:chExt cx="1828080" cy="1828080"/>
          </a:xfrm>
        </p:grpSpPr>
        <p:grpSp>
          <p:nvGrpSpPr>
            <p:cNvPr id="197" name=""/>
            <p:cNvGrpSpPr/>
            <p:nvPr/>
          </p:nvGrpSpPr>
          <p:grpSpPr>
            <a:xfrm>
              <a:off x="4495680" y="228600"/>
              <a:ext cx="1828080" cy="1828080"/>
              <a:chOff x="4495680" y="228600"/>
              <a:chExt cx="1828080" cy="1828080"/>
            </a:xfrm>
          </p:grpSpPr>
          <p:sp>
            <p:nvSpPr>
              <p:cNvPr id="198" name=""/>
              <p:cNvSpPr/>
              <p:nvPr/>
            </p:nvSpPr>
            <p:spPr>
              <a:xfrm>
                <a:off x="4952520" y="22860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09720" y="22860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09720" y="6854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09720" y="11426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09720" y="15998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66920" y="6854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95680" y="15998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52520" y="15998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029200" y="304920"/>
              <a:ext cx="343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2720" y="304920"/>
              <a:ext cx="34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10080" y="7621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29480" y="7509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7200" y="1206720"/>
              <a:ext cx="4572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52880" y="167328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10080" y="16765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27720" y="167004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00400" y="304920"/>
            <a:ext cx="1345680" cy="891360"/>
            <a:chOff x="3200400" y="304920"/>
            <a:chExt cx="1345680" cy="891360"/>
          </a:xfrm>
        </p:grpSpPr>
        <p:grpSp>
          <p:nvGrpSpPr>
            <p:cNvPr id="215" name=""/>
            <p:cNvGrpSpPr/>
            <p:nvPr/>
          </p:nvGrpSpPr>
          <p:grpSpPr>
            <a:xfrm>
              <a:off x="3200400" y="304920"/>
              <a:ext cx="1318680" cy="891360"/>
              <a:chOff x="3200400" y="304920"/>
              <a:chExt cx="1318680" cy="891360"/>
            </a:xfrm>
          </p:grpSpPr>
          <p:sp>
            <p:nvSpPr>
              <p:cNvPr id="216" name=""/>
              <p:cNvSpPr/>
              <p:nvPr/>
            </p:nvSpPr>
            <p:spPr>
              <a:xfrm>
                <a:off x="3200400" y="304920"/>
                <a:ext cx="439560" cy="445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00400" y="750600"/>
                <a:ext cx="439560" cy="445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39960" y="750600"/>
                <a:ext cx="439560" cy="445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79520" y="750600"/>
                <a:ext cx="439560" cy="445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79520" y="304920"/>
                <a:ext cx="439560" cy="445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062240" y="304920"/>
              <a:ext cx="4568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89240" y="787320"/>
              <a:ext cx="4568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43200" y="774720"/>
              <a:ext cx="4568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23800" y="761760"/>
              <a:ext cx="4568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23800" y="304920"/>
              <a:ext cx="4568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391520" y="0"/>
            <a:ext cx="1371600" cy="1350360"/>
            <a:chOff x="7391520" y="0"/>
            <a:chExt cx="1371600" cy="1350360"/>
          </a:xfrm>
        </p:grpSpPr>
        <p:grpSp>
          <p:nvGrpSpPr>
            <p:cNvPr id="227" name=""/>
            <p:cNvGrpSpPr/>
            <p:nvPr/>
          </p:nvGrpSpPr>
          <p:grpSpPr>
            <a:xfrm>
              <a:off x="7391520" y="0"/>
              <a:ext cx="1352160" cy="1350360"/>
              <a:chOff x="7391520" y="0"/>
              <a:chExt cx="1352160" cy="1350360"/>
            </a:xfrm>
          </p:grpSpPr>
          <p:sp>
            <p:nvSpPr>
              <p:cNvPr id="228" name=""/>
              <p:cNvSpPr/>
              <p:nvPr/>
            </p:nvSpPr>
            <p:spPr>
              <a:xfrm>
                <a:off x="7391520" y="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391520" y="45000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391520" y="90036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842240" y="90036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292960" y="90036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842240" y="45000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8305920" y="90576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48720" y="90576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48720" y="45288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1520" y="90576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91520" y="45288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91520" y="7560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162920" y="5029200"/>
            <a:ext cx="1828080" cy="1828080"/>
            <a:chOff x="7162920" y="5029200"/>
            <a:chExt cx="1828080" cy="1828080"/>
          </a:xfrm>
        </p:grpSpPr>
        <p:grpSp>
          <p:nvGrpSpPr>
            <p:cNvPr id="241" name=""/>
            <p:cNvGrpSpPr/>
            <p:nvPr/>
          </p:nvGrpSpPr>
          <p:grpSpPr>
            <a:xfrm>
              <a:off x="7162920" y="5029200"/>
              <a:ext cx="1828080" cy="1828080"/>
              <a:chOff x="7162920" y="5029200"/>
              <a:chExt cx="1828080" cy="1828080"/>
            </a:xfrm>
          </p:grpSpPr>
          <p:sp>
            <p:nvSpPr>
              <p:cNvPr id="242" name=""/>
              <p:cNvSpPr/>
              <p:nvPr/>
            </p:nvSpPr>
            <p:spPr>
              <a:xfrm>
                <a:off x="7619760" y="502920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076960" y="502920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076960" y="54860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76960" y="59432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76960" y="64004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534160" y="54860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62920" y="64004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19760" y="64004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696440" y="5105520"/>
              <a:ext cx="343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29960" y="5105520"/>
              <a:ext cx="34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5627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96720" y="55515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74440" y="6007320"/>
              <a:ext cx="4572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20120" y="647388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77320" y="64771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94960" y="647064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7238880" y="2133720"/>
            <a:ext cx="1371600" cy="1812240"/>
            <a:chOff x="7238880" y="2133720"/>
            <a:chExt cx="1371600" cy="1812240"/>
          </a:xfrm>
        </p:grpSpPr>
        <p:grpSp>
          <p:nvGrpSpPr>
            <p:cNvPr id="259" name=""/>
            <p:cNvGrpSpPr/>
            <p:nvPr/>
          </p:nvGrpSpPr>
          <p:grpSpPr>
            <a:xfrm>
              <a:off x="7238880" y="2133720"/>
              <a:ext cx="1365120" cy="1812240"/>
              <a:chOff x="7238880" y="2133720"/>
              <a:chExt cx="1365120" cy="1812240"/>
            </a:xfrm>
          </p:grpSpPr>
          <p:sp>
            <p:nvSpPr>
              <p:cNvPr id="260" name=""/>
              <p:cNvSpPr/>
              <p:nvPr/>
            </p:nvSpPr>
            <p:spPr>
              <a:xfrm>
                <a:off x="7238880" y="213372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93920" y="303984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93920" y="258660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693920" y="349308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148960" y="213372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93920" y="213372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696080" y="3499200"/>
              <a:ext cx="4572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83480" y="3094560"/>
              <a:ext cx="4572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11920" y="2633040"/>
              <a:ext cx="4572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53280" y="2185920"/>
              <a:ext cx="4572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96080" y="2197080"/>
              <a:ext cx="5335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38880" y="2209680"/>
              <a:ext cx="4572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5120" y="228600"/>
            <a:ext cx="914400" cy="1366200"/>
            <a:chOff x="1905120" y="228600"/>
            <a:chExt cx="914400" cy="1366200"/>
          </a:xfrm>
        </p:grpSpPr>
        <p:grpSp>
          <p:nvGrpSpPr>
            <p:cNvPr id="273" name=""/>
            <p:cNvGrpSpPr/>
            <p:nvPr/>
          </p:nvGrpSpPr>
          <p:grpSpPr>
            <a:xfrm>
              <a:off x="1927440" y="228600"/>
              <a:ext cx="891360" cy="1366200"/>
              <a:chOff x="1927440" y="228600"/>
              <a:chExt cx="891360" cy="1366200"/>
            </a:xfrm>
          </p:grpSpPr>
          <p:sp>
            <p:nvSpPr>
              <p:cNvPr id="274" name=""/>
              <p:cNvSpPr/>
              <p:nvPr/>
            </p:nvSpPr>
            <p:spPr>
              <a:xfrm>
                <a:off x="1927440" y="228600"/>
                <a:ext cx="444240" cy="4554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27440" y="684000"/>
                <a:ext cx="444240" cy="4554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27440" y="1139400"/>
                <a:ext cx="444240" cy="4554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71680" y="684000"/>
                <a:ext cx="447120" cy="4554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1905120" y="29988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05120" y="1137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05120" y="75708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75708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743200" y="1447920"/>
            <a:ext cx="1370880" cy="1370880"/>
            <a:chOff x="2743200" y="1447920"/>
            <a:chExt cx="1370880" cy="1370880"/>
          </a:xfrm>
        </p:grpSpPr>
        <p:grpSp>
          <p:nvGrpSpPr>
            <p:cNvPr id="283" name=""/>
            <p:cNvGrpSpPr/>
            <p:nvPr/>
          </p:nvGrpSpPr>
          <p:grpSpPr>
            <a:xfrm>
              <a:off x="2743200" y="1447920"/>
              <a:ext cx="1370880" cy="1370880"/>
              <a:chOff x="2743200" y="1447920"/>
              <a:chExt cx="1370880" cy="1370880"/>
            </a:xfrm>
          </p:grpSpPr>
          <p:sp>
            <p:nvSpPr>
              <p:cNvPr id="284" name=""/>
              <p:cNvSpPr/>
              <p:nvPr/>
            </p:nvSpPr>
            <p:spPr>
              <a:xfrm>
                <a:off x="2743200" y="1447920"/>
                <a:ext cx="45828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01480" y="1447920"/>
                <a:ext cx="45828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659760" y="1447920"/>
                <a:ext cx="4543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43200" y="1904760"/>
                <a:ext cx="45828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01480" y="1904760"/>
                <a:ext cx="45828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43200" y="2361960"/>
                <a:ext cx="45828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819520" y="1524240"/>
              <a:ext cx="341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152424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3920" y="152424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43200" y="19814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24440" y="19814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3200" y="24386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638680" y="2286000"/>
            <a:ext cx="1317240" cy="1356480"/>
            <a:chOff x="5638680" y="2286000"/>
            <a:chExt cx="1317240" cy="1356480"/>
          </a:xfrm>
        </p:grpSpPr>
        <p:grpSp>
          <p:nvGrpSpPr>
            <p:cNvPr id="297" name=""/>
            <p:cNvGrpSpPr/>
            <p:nvPr/>
          </p:nvGrpSpPr>
          <p:grpSpPr>
            <a:xfrm>
              <a:off x="5638680" y="2286000"/>
              <a:ext cx="1316520" cy="1356480"/>
              <a:chOff x="5638680" y="2286000"/>
              <a:chExt cx="1316520" cy="1356480"/>
            </a:xfrm>
          </p:grpSpPr>
          <p:sp>
            <p:nvSpPr>
              <p:cNvPr id="298" name=""/>
              <p:cNvSpPr/>
              <p:nvPr/>
            </p:nvSpPr>
            <p:spPr>
              <a:xfrm>
                <a:off x="6077520" y="2286000"/>
                <a:ext cx="438840" cy="4521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77520" y="2738160"/>
                <a:ext cx="438840" cy="4521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38680" y="2738160"/>
                <a:ext cx="438840" cy="4521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516360" y="2738160"/>
                <a:ext cx="438840" cy="4521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77520" y="3190320"/>
                <a:ext cx="438840" cy="4521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109920" y="3200040"/>
              <a:ext cx="461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94400" y="2742840"/>
              <a:ext cx="461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09920" y="2742840"/>
              <a:ext cx="461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48400" y="2742840"/>
              <a:ext cx="461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09920" y="2361960"/>
              <a:ext cx="461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581280" y="2438280"/>
            <a:ext cx="1828800" cy="1359720"/>
            <a:chOff x="3581280" y="2438280"/>
            <a:chExt cx="1828800" cy="1359720"/>
          </a:xfrm>
        </p:grpSpPr>
        <p:grpSp>
          <p:nvGrpSpPr>
            <p:cNvPr id="309" name=""/>
            <p:cNvGrpSpPr/>
            <p:nvPr/>
          </p:nvGrpSpPr>
          <p:grpSpPr>
            <a:xfrm>
              <a:off x="3601800" y="2438280"/>
              <a:ext cx="1807560" cy="1359720"/>
              <a:chOff x="3601800" y="2438280"/>
              <a:chExt cx="1807560" cy="1359720"/>
            </a:xfrm>
          </p:grpSpPr>
          <p:sp>
            <p:nvSpPr>
              <p:cNvPr id="310" name=""/>
              <p:cNvSpPr/>
              <p:nvPr/>
            </p:nvSpPr>
            <p:spPr>
              <a:xfrm>
                <a:off x="3601800" y="289152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53600" y="334476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53600" y="243828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957560" y="289152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05760" y="289152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53600" y="289152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4052520" y="34160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38480" y="24987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29559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5680" y="29559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38480" y="29559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29559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613480" y="3811680"/>
            <a:ext cx="1384920" cy="1797840"/>
            <a:chOff x="5613480" y="3811680"/>
            <a:chExt cx="1384920" cy="1797840"/>
          </a:xfrm>
        </p:grpSpPr>
        <p:grpSp>
          <p:nvGrpSpPr>
            <p:cNvPr id="323" name=""/>
            <p:cNvGrpSpPr/>
            <p:nvPr/>
          </p:nvGrpSpPr>
          <p:grpSpPr>
            <a:xfrm>
              <a:off x="5621400" y="3811680"/>
              <a:ext cx="1376640" cy="1797840"/>
              <a:chOff x="5621400" y="3811680"/>
              <a:chExt cx="1376640" cy="1797840"/>
            </a:xfrm>
          </p:grpSpPr>
          <p:sp>
            <p:nvSpPr>
              <p:cNvPr id="324" name=""/>
              <p:cNvSpPr/>
              <p:nvPr/>
            </p:nvSpPr>
            <p:spPr>
              <a:xfrm>
                <a:off x="6078240" y="3811680"/>
                <a:ext cx="45972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78240" y="4260960"/>
                <a:ext cx="45972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78240" y="4710600"/>
                <a:ext cx="45972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78240" y="5160240"/>
                <a:ext cx="45972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38320" y="5160240"/>
                <a:ext cx="45972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21400" y="5160240"/>
                <a:ext cx="45684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075000" y="3878280"/>
              <a:ext cx="4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75000" y="4335480"/>
              <a:ext cx="4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5080" y="4761000"/>
              <a:ext cx="459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13480" y="5173560"/>
              <a:ext cx="4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75000" y="5173560"/>
              <a:ext cx="4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36880" y="5173560"/>
              <a:ext cx="4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133720" y="3048120"/>
            <a:ext cx="1371600" cy="1370880"/>
            <a:chOff x="2133720" y="3048120"/>
            <a:chExt cx="1371600" cy="1370880"/>
          </a:xfrm>
        </p:grpSpPr>
        <p:grpSp>
          <p:nvGrpSpPr>
            <p:cNvPr id="337" name=""/>
            <p:cNvGrpSpPr/>
            <p:nvPr/>
          </p:nvGrpSpPr>
          <p:grpSpPr>
            <a:xfrm>
              <a:off x="2133720" y="3048120"/>
              <a:ext cx="1370880" cy="1370880"/>
              <a:chOff x="2133720" y="3048120"/>
              <a:chExt cx="1370880" cy="1370880"/>
            </a:xfrm>
          </p:grpSpPr>
          <p:sp>
            <p:nvSpPr>
              <p:cNvPr id="338" name=""/>
              <p:cNvSpPr/>
              <p:nvPr/>
            </p:nvSpPr>
            <p:spPr>
              <a:xfrm>
                <a:off x="2133720" y="3048120"/>
                <a:ext cx="4557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33720" y="3504960"/>
                <a:ext cx="4557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89480" y="3504960"/>
                <a:ext cx="4557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89480" y="3962160"/>
                <a:ext cx="4557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45240" y="3962160"/>
                <a:ext cx="4593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2133720" y="31244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33720" y="35816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8120" y="39625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90920" y="39625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90920" y="35816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553080" y="1143000"/>
            <a:ext cx="457200" cy="913680"/>
            <a:chOff x="6553080" y="1143000"/>
            <a:chExt cx="457200" cy="913680"/>
          </a:xfrm>
        </p:grpSpPr>
        <p:grpSp>
          <p:nvGrpSpPr>
            <p:cNvPr id="349" name=""/>
            <p:cNvGrpSpPr/>
            <p:nvPr/>
          </p:nvGrpSpPr>
          <p:grpSpPr>
            <a:xfrm>
              <a:off x="6553080" y="1143000"/>
              <a:ext cx="456840" cy="913680"/>
              <a:chOff x="6553080" y="1143000"/>
              <a:chExt cx="456840" cy="913680"/>
            </a:xfrm>
          </p:grpSpPr>
          <p:sp>
            <p:nvSpPr>
              <p:cNvPr id="350" name=""/>
              <p:cNvSpPr/>
              <p:nvPr/>
            </p:nvSpPr>
            <p:spPr>
              <a:xfrm>
                <a:off x="6553080" y="114300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53080" y="159984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6553080" y="121356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53080" y="166680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43400" y="4114800"/>
            <a:ext cx="914400" cy="1813680"/>
            <a:chOff x="4343400" y="4114800"/>
            <a:chExt cx="914400" cy="1813680"/>
          </a:xfrm>
        </p:grpSpPr>
        <p:grpSp>
          <p:nvGrpSpPr>
            <p:cNvPr id="355" name=""/>
            <p:cNvGrpSpPr/>
            <p:nvPr/>
          </p:nvGrpSpPr>
          <p:grpSpPr>
            <a:xfrm>
              <a:off x="4357440" y="4114800"/>
              <a:ext cx="899640" cy="1813680"/>
              <a:chOff x="4357440" y="4114800"/>
              <a:chExt cx="899640" cy="1813680"/>
            </a:xfrm>
          </p:grpSpPr>
          <p:sp>
            <p:nvSpPr>
              <p:cNvPr id="356" name=""/>
              <p:cNvSpPr/>
              <p:nvPr/>
            </p:nvSpPr>
            <p:spPr>
              <a:xfrm>
                <a:off x="4357440" y="4114800"/>
                <a:ext cx="44856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06000" y="4568040"/>
                <a:ext cx="45108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06000" y="5021640"/>
                <a:ext cx="45108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06000" y="5475240"/>
                <a:ext cx="45108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806000" y="4114800"/>
                <a:ext cx="45108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4800600" y="55483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00600" y="50911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00600" y="46339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43400" y="41767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00600" y="41767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76720" y="4724280"/>
            <a:ext cx="914400" cy="1371240"/>
            <a:chOff x="3276720" y="4724280"/>
            <a:chExt cx="914400" cy="1371240"/>
          </a:xfrm>
        </p:grpSpPr>
        <p:grpSp>
          <p:nvGrpSpPr>
            <p:cNvPr id="367" name=""/>
            <p:cNvGrpSpPr/>
            <p:nvPr/>
          </p:nvGrpSpPr>
          <p:grpSpPr>
            <a:xfrm>
              <a:off x="3276720" y="4724280"/>
              <a:ext cx="909360" cy="1371240"/>
              <a:chOff x="3276720" y="4724280"/>
              <a:chExt cx="909360" cy="1371240"/>
            </a:xfrm>
          </p:grpSpPr>
          <p:sp>
            <p:nvSpPr>
              <p:cNvPr id="368" name=""/>
              <p:cNvSpPr/>
              <p:nvPr/>
            </p:nvSpPr>
            <p:spPr>
              <a:xfrm>
                <a:off x="3276720" y="4724280"/>
                <a:ext cx="455400" cy="45612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32120" y="4724280"/>
                <a:ext cx="453960" cy="45612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32120" y="5180400"/>
                <a:ext cx="453960" cy="4575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2120" y="5637960"/>
                <a:ext cx="453960" cy="4575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76720" y="5637960"/>
                <a:ext cx="455400" cy="4575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353040" y="4799880"/>
              <a:ext cx="304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81440" y="4798440"/>
              <a:ext cx="3812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21320" y="528876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570564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76720" y="570564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52280" y="4343400"/>
            <a:ext cx="914400" cy="2285280"/>
            <a:chOff x="152280" y="4343400"/>
            <a:chExt cx="914400" cy="2285280"/>
          </a:xfrm>
        </p:grpSpPr>
        <p:grpSp>
          <p:nvGrpSpPr>
            <p:cNvPr id="379" name=""/>
            <p:cNvGrpSpPr/>
            <p:nvPr/>
          </p:nvGrpSpPr>
          <p:grpSpPr>
            <a:xfrm>
              <a:off x="171360" y="4343400"/>
              <a:ext cx="894600" cy="2285280"/>
              <a:chOff x="171360" y="4343400"/>
              <a:chExt cx="894600" cy="2285280"/>
            </a:xfrm>
          </p:grpSpPr>
          <p:sp>
            <p:nvSpPr>
              <p:cNvPr id="380" name=""/>
              <p:cNvSpPr/>
              <p:nvPr/>
            </p:nvSpPr>
            <p:spPr>
              <a:xfrm>
                <a:off x="171360" y="4343400"/>
                <a:ext cx="4460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7400" y="4343400"/>
                <a:ext cx="4485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7400" y="4800240"/>
                <a:ext cx="4485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7400" y="5257440"/>
                <a:ext cx="4485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7400" y="5714640"/>
                <a:ext cx="4485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7400" y="6171840"/>
                <a:ext cx="4485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71360" y="5714640"/>
                <a:ext cx="4460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71360" y="5257440"/>
                <a:ext cx="4460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228600" y="4419720"/>
              <a:ext cx="34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5800" y="4419720"/>
              <a:ext cx="34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480" y="48769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9480" y="53341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9480" y="57913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62485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2280" y="57913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280" y="53341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600200" y="5029200"/>
            <a:ext cx="1358640" cy="913680"/>
            <a:chOff x="1600200" y="5029200"/>
            <a:chExt cx="1358640" cy="913680"/>
          </a:xfrm>
        </p:grpSpPr>
        <p:grpSp>
          <p:nvGrpSpPr>
            <p:cNvPr id="397" name=""/>
            <p:cNvGrpSpPr/>
            <p:nvPr/>
          </p:nvGrpSpPr>
          <p:grpSpPr>
            <a:xfrm>
              <a:off x="1600200" y="5029200"/>
              <a:ext cx="1357920" cy="913680"/>
              <a:chOff x="1600200" y="5029200"/>
              <a:chExt cx="1357920" cy="913680"/>
            </a:xfrm>
          </p:grpSpPr>
          <p:sp>
            <p:nvSpPr>
              <p:cNvPr id="398" name=""/>
              <p:cNvSpPr/>
              <p:nvPr/>
            </p:nvSpPr>
            <p:spPr>
              <a:xfrm>
                <a:off x="1600200" y="5029200"/>
                <a:ext cx="4525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52720" y="5486040"/>
                <a:ext cx="4525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505600" y="5029200"/>
                <a:ext cx="4525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052720" y="5029200"/>
                <a:ext cx="4525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05600" y="5486040"/>
                <a:ext cx="4525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036160" y="5562720"/>
              <a:ext cx="46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97680" y="5105520"/>
              <a:ext cx="46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36160" y="5105520"/>
              <a:ext cx="46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51320" y="5105520"/>
              <a:ext cx="46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97680" y="5562720"/>
              <a:ext cx="46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2438280" y="1066680"/>
            <a:ext cx="4571640" cy="4571640"/>
            <a:chOff x="2438280" y="1066680"/>
            <a:chExt cx="4571640" cy="4571640"/>
          </a:xfrm>
        </p:grpSpPr>
        <p:grpSp>
          <p:nvGrpSpPr>
            <p:cNvPr id="409" name=""/>
            <p:cNvGrpSpPr/>
            <p:nvPr/>
          </p:nvGrpSpPr>
          <p:grpSpPr>
            <a:xfrm>
              <a:off x="2438280" y="1066680"/>
              <a:ext cx="4571640" cy="457200"/>
              <a:chOff x="2438280" y="1066680"/>
              <a:chExt cx="4571640" cy="457200"/>
            </a:xfrm>
          </p:grpSpPr>
          <p:sp>
            <p:nvSpPr>
              <p:cNvPr id="410" name=""/>
              <p:cNvSpPr/>
              <p:nvPr/>
            </p:nvSpPr>
            <p:spPr>
              <a:xfrm>
                <a:off x="2438280" y="10666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895480" y="10666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352680" y="10666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09880" y="10666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267080" y="10666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24280" y="10666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81480" y="10666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638680" y="10666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95880" y="10666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53080" y="10666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438280" y="1523880"/>
              <a:ext cx="4571640" cy="456840"/>
              <a:chOff x="2438280" y="1523880"/>
              <a:chExt cx="4571640" cy="456840"/>
            </a:xfrm>
          </p:grpSpPr>
          <p:sp>
            <p:nvSpPr>
              <p:cNvPr id="421" name=""/>
              <p:cNvSpPr/>
              <p:nvPr/>
            </p:nvSpPr>
            <p:spPr>
              <a:xfrm>
                <a:off x="2438280" y="15238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95480" y="15238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352680" y="15238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809880" y="15238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267080" y="15238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24280" y="15238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81480" y="15238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638680" y="15238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95880" y="15238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53080" y="15238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438280" y="1981080"/>
              <a:ext cx="4571640" cy="457200"/>
              <a:chOff x="2438280" y="1981080"/>
              <a:chExt cx="4571640" cy="457200"/>
            </a:xfrm>
          </p:grpSpPr>
          <p:sp>
            <p:nvSpPr>
              <p:cNvPr id="432" name=""/>
              <p:cNvSpPr/>
              <p:nvPr/>
            </p:nvSpPr>
            <p:spPr>
              <a:xfrm>
                <a:off x="2438280" y="19810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95480" y="19810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352680" y="19810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09880" y="19810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67080" y="19810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24280" y="19810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81480" y="19810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638680" y="19810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095880" y="19810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553080" y="19810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38280" y="2438280"/>
              <a:ext cx="4571640" cy="456840"/>
              <a:chOff x="2438280" y="2438280"/>
              <a:chExt cx="4571640" cy="456840"/>
            </a:xfrm>
          </p:grpSpPr>
          <p:sp>
            <p:nvSpPr>
              <p:cNvPr id="443" name=""/>
              <p:cNvSpPr/>
              <p:nvPr/>
            </p:nvSpPr>
            <p:spPr>
              <a:xfrm>
                <a:off x="2438280" y="24382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895480" y="24382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52680" y="24382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809880" y="24382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267080" y="24382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24280" y="24382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81480" y="24382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38680" y="24382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95880" y="24382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553080" y="24382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438280" y="2895480"/>
              <a:ext cx="4571640" cy="457200"/>
              <a:chOff x="2438280" y="2895480"/>
              <a:chExt cx="4571640" cy="45720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8954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895480" y="28954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352680" y="28954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809880" y="28954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267080" y="28954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724280" y="28954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81480" y="28954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638680" y="28954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95880" y="28954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53080" y="28954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438280" y="3352680"/>
              <a:ext cx="4571640" cy="456840"/>
              <a:chOff x="2438280" y="3352680"/>
              <a:chExt cx="4571640" cy="456840"/>
            </a:xfrm>
          </p:grpSpPr>
          <p:sp>
            <p:nvSpPr>
              <p:cNvPr id="465" name=""/>
              <p:cNvSpPr/>
              <p:nvPr/>
            </p:nvSpPr>
            <p:spPr>
              <a:xfrm>
                <a:off x="2438280" y="33526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95480" y="33526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352680" y="33526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09880" y="33526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33526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24280" y="33526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81480" y="33526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638680" y="33526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95880" y="33526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53080" y="33526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2438280" y="3809880"/>
              <a:ext cx="4571640" cy="457200"/>
              <a:chOff x="2438280" y="3809880"/>
              <a:chExt cx="4571640" cy="457200"/>
            </a:xfrm>
          </p:grpSpPr>
          <p:sp>
            <p:nvSpPr>
              <p:cNvPr id="476" name=""/>
              <p:cNvSpPr/>
              <p:nvPr/>
            </p:nvSpPr>
            <p:spPr>
              <a:xfrm>
                <a:off x="2438280" y="38098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895480" y="38098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352680" y="38098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809880" y="38098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67080" y="38098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24280" y="38098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81480" y="38098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638680" y="38098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095880" y="38098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553080" y="38098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438280" y="4267080"/>
              <a:ext cx="4571640" cy="456840"/>
              <a:chOff x="2438280" y="4267080"/>
              <a:chExt cx="457164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2438280" y="42670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895480" y="42670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352680" y="42670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809880" y="42670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267080" y="42670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724280" y="42670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181480" y="42670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38680" y="42670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095880" y="42670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53080" y="42670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2438280" y="4724280"/>
              <a:ext cx="4571640" cy="457200"/>
              <a:chOff x="2438280" y="4724280"/>
              <a:chExt cx="4571640" cy="457200"/>
            </a:xfrm>
          </p:grpSpPr>
          <p:sp>
            <p:nvSpPr>
              <p:cNvPr id="498" name=""/>
              <p:cNvSpPr/>
              <p:nvPr/>
            </p:nvSpPr>
            <p:spPr>
              <a:xfrm>
                <a:off x="2438280" y="47242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895480" y="47242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352680" y="47242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809880" y="47242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67080" y="47242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724280" y="47242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181480" y="47242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38680" y="47242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95880" y="4724280"/>
                <a:ext cx="4572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53080" y="4724280"/>
                <a:ext cx="45684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2438280" y="5181480"/>
              <a:ext cx="4571640" cy="456840"/>
              <a:chOff x="2438280" y="5181480"/>
              <a:chExt cx="4571640" cy="456840"/>
            </a:xfrm>
          </p:grpSpPr>
          <p:sp>
            <p:nvSpPr>
              <p:cNvPr id="509" name=""/>
              <p:cNvSpPr/>
              <p:nvPr/>
            </p:nvSpPr>
            <p:spPr>
              <a:xfrm>
                <a:off x="2438280" y="51814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95480" y="51814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352680" y="51814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809880" y="51814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267080" y="51814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24280" y="51814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181480" y="51814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638680" y="51814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95880" y="5181480"/>
                <a:ext cx="45720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53080" y="5181480"/>
                <a:ext cx="456840" cy="45684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9" name=""/>
          <p:cNvGrpSpPr/>
          <p:nvPr/>
        </p:nvGrpSpPr>
        <p:grpSpPr>
          <a:xfrm>
            <a:off x="4267080" y="1066680"/>
            <a:ext cx="914400" cy="1371240"/>
            <a:chOff x="4267080" y="1066680"/>
            <a:chExt cx="914400" cy="1371240"/>
          </a:xfrm>
        </p:grpSpPr>
        <p:grpSp>
          <p:nvGrpSpPr>
            <p:cNvPr id="520" name=""/>
            <p:cNvGrpSpPr/>
            <p:nvPr/>
          </p:nvGrpSpPr>
          <p:grpSpPr>
            <a:xfrm>
              <a:off x="4267080" y="1066680"/>
              <a:ext cx="909360" cy="1371240"/>
              <a:chOff x="4267080" y="1066680"/>
              <a:chExt cx="909360" cy="1371240"/>
            </a:xfrm>
          </p:grpSpPr>
          <p:sp>
            <p:nvSpPr>
              <p:cNvPr id="521" name=""/>
              <p:cNvSpPr/>
              <p:nvPr/>
            </p:nvSpPr>
            <p:spPr>
              <a:xfrm>
                <a:off x="4267080" y="1066680"/>
                <a:ext cx="455400" cy="45612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22480" y="1066680"/>
                <a:ext cx="453960" cy="45612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22480" y="1522800"/>
                <a:ext cx="453960" cy="4575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722480" y="1980360"/>
                <a:ext cx="453960" cy="4575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267080" y="1980360"/>
                <a:ext cx="455400" cy="4575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343400" y="1142280"/>
              <a:ext cx="304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71800" y="1140840"/>
              <a:ext cx="3812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11680" y="163116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24280" y="204804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7080" y="204804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438280" y="1066680"/>
            <a:ext cx="1370880" cy="1370880"/>
            <a:chOff x="2438280" y="1066680"/>
            <a:chExt cx="1370880" cy="1370880"/>
          </a:xfrm>
        </p:grpSpPr>
        <p:grpSp>
          <p:nvGrpSpPr>
            <p:cNvPr id="532" name=""/>
            <p:cNvGrpSpPr/>
            <p:nvPr/>
          </p:nvGrpSpPr>
          <p:grpSpPr>
            <a:xfrm>
              <a:off x="2438280" y="1066680"/>
              <a:ext cx="1370880" cy="1370880"/>
              <a:chOff x="2438280" y="1066680"/>
              <a:chExt cx="1370880" cy="1370880"/>
            </a:xfrm>
          </p:grpSpPr>
          <p:sp>
            <p:nvSpPr>
              <p:cNvPr id="533" name=""/>
              <p:cNvSpPr/>
              <p:nvPr/>
            </p:nvSpPr>
            <p:spPr>
              <a:xfrm>
                <a:off x="2438280" y="1066680"/>
                <a:ext cx="45828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96560" y="1066680"/>
                <a:ext cx="45828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354840" y="1066680"/>
                <a:ext cx="4543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438280" y="1523520"/>
                <a:ext cx="45828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896560" y="1523520"/>
                <a:ext cx="45828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438280" y="1980720"/>
                <a:ext cx="45828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2514600" y="1143000"/>
              <a:ext cx="341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895480" y="11430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29000" y="11430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38280" y="16002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19520" y="16002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38280" y="20574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352680" y="1066680"/>
            <a:ext cx="1382760" cy="913680"/>
            <a:chOff x="3352680" y="1066680"/>
            <a:chExt cx="1382760" cy="913680"/>
          </a:xfrm>
        </p:grpSpPr>
        <p:grpSp>
          <p:nvGrpSpPr>
            <p:cNvPr id="546" name=""/>
            <p:cNvGrpSpPr/>
            <p:nvPr/>
          </p:nvGrpSpPr>
          <p:grpSpPr>
            <a:xfrm>
              <a:off x="3352680" y="1066680"/>
              <a:ext cx="1352160" cy="913680"/>
              <a:chOff x="3352680" y="1066680"/>
              <a:chExt cx="1352160" cy="913680"/>
            </a:xfrm>
          </p:grpSpPr>
          <p:sp>
            <p:nvSpPr>
              <p:cNvPr id="547" name=""/>
              <p:cNvSpPr/>
              <p:nvPr/>
            </p:nvSpPr>
            <p:spPr>
              <a:xfrm>
                <a:off x="3803400" y="1066680"/>
                <a:ext cx="4507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352680" y="1523520"/>
                <a:ext cx="4507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803400" y="1523520"/>
                <a:ext cx="4507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254120" y="1523520"/>
                <a:ext cx="4507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875040" y="1155600"/>
              <a:ext cx="335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27480" y="1579680"/>
              <a:ext cx="50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01960" y="1604880"/>
              <a:ext cx="4572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375000" y="1617840"/>
              <a:ext cx="457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724280" y="1066680"/>
            <a:ext cx="1828080" cy="1828080"/>
            <a:chOff x="4724280" y="1066680"/>
            <a:chExt cx="1828080" cy="1828080"/>
          </a:xfrm>
        </p:grpSpPr>
        <p:grpSp>
          <p:nvGrpSpPr>
            <p:cNvPr id="556" name=""/>
            <p:cNvGrpSpPr/>
            <p:nvPr/>
          </p:nvGrpSpPr>
          <p:grpSpPr>
            <a:xfrm>
              <a:off x="4724280" y="1066680"/>
              <a:ext cx="1828080" cy="1828080"/>
              <a:chOff x="4724280" y="1066680"/>
              <a:chExt cx="1828080" cy="1828080"/>
            </a:xfrm>
          </p:grpSpPr>
          <p:sp>
            <p:nvSpPr>
              <p:cNvPr id="557" name=""/>
              <p:cNvSpPr/>
              <p:nvPr/>
            </p:nvSpPr>
            <p:spPr>
              <a:xfrm>
                <a:off x="5181120" y="106668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8320" y="106668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38320" y="15235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638320" y="19807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638320" y="24379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95520" y="15235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724280" y="24379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1120" y="24379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5257800" y="1143000"/>
              <a:ext cx="343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91320" y="1143000"/>
              <a:ext cx="34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38680" y="16002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58080" y="15890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35800" y="2044800"/>
              <a:ext cx="4572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81480" y="25113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38680" y="25146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56320" y="250812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181480" y="1528920"/>
            <a:ext cx="457200" cy="913680"/>
            <a:chOff x="5181480" y="1528920"/>
            <a:chExt cx="457200" cy="913680"/>
          </a:xfrm>
        </p:grpSpPr>
        <p:grpSp>
          <p:nvGrpSpPr>
            <p:cNvPr id="574" name=""/>
            <p:cNvGrpSpPr/>
            <p:nvPr/>
          </p:nvGrpSpPr>
          <p:grpSpPr>
            <a:xfrm>
              <a:off x="5181480" y="1528920"/>
              <a:ext cx="456840" cy="913680"/>
              <a:chOff x="5181480" y="1528920"/>
              <a:chExt cx="456840" cy="91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5181480" y="15289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81480" y="198576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5181480" y="159948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81480" y="205272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081840" y="1066680"/>
            <a:ext cx="914400" cy="2285280"/>
            <a:chOff x="6081840" y="1066680"/>
            <a:chExt cx="914400" cy="2285280"/>
          </a:xfrm>
        </p:grpSpPr>
        <p:grpSp>
          <p:nvGrpSpPr>
            <p:cNvPr id="580" name=""/>
            <p:cNvGrpSpPr/>
            <p:nvPr/>
          </p:nvGrpSpPr>
          <p:grpSpPr>
            <a:xfrm>
              <a:off x="6100920" y="1066680"/>
              <a:ext cx="894600" cy="2285280"/>
              <a:chOff x="6100920" y="1066680"/>
              <a:chExt cx="894600" cy="2285280"/>
            </a:xfrm>
          </p:grpSpPr>
          <p:sp>
            <p:nvSpPr>
              <p:cNvPr id="581" name=""/>
              <p:cNvSpPr/>
              <p:nvPr/>
            </p:nvSpPr>
            <p:spPr>
              <a:xfrm>
                <a:off x="6100920" y="1066680"/>
                <a:ext cx="4460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546960" y="1066680"/>
                <a:ext cx="4485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46960" y="1523520"/>
                <a:ext cx="4485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46960" y="1980720"/>
                <a:ext cx="4485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546960" y="2437920"/>
                <a:ext cx="4485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46960" y="2895120"/>
                <a:ext cx="4485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0920" y="2437920"/>
                <a:ext cx="4460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100920" y="1980720"/>
                <a:ext cx="4460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6158160" y="1143000"/>
              <a:ext cx="34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15360" y="1143000"/>
              <a:ext cx="34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9040" y="16002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39040" y="20574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39040" y="25146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9040" y="29718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81840" y="25146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81840" y="20574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895480" y="1981080"/>
            <a:ext cx="1358640" cy="913680"/>
            <a:chOff x="2895480" y="1981080"/>
            <a:chExt cx="1358640" cy="913680"/>
          </a:xfrm>
        </p:grpSpPr>
        <p:grpSp>
          <p:nvGrpSpPr>
            <p:cNvPr id="598" name=""/>
            <p:cNvGrpSpPr/>
            <p:nvPr/>
          </p:nvGrpSpPr>
          <p:grpSpPr>
            <a:xfrm>
              <a:off x="2895480" y="1981080"/>
              <a:ext cx="1357920" cy="913680"/>
              <a:chOff x="2895480" y="1981080"/>
              <a:chExt cx="1357920" cy="913680"/>
            </a:xfrm>
          </p:grpSpPr>
          <p:sp>
            <p:nvSpPr>
              <p:cNvPr id="599" name=""/>
              <p:cNvSpPr/>
              <p:nvPr/>
            </p:nvSpPr>
            <p:spPr>
              <a:xfrm>
                <a:off x="2895480" y="1981080"/>
                <a:ext cx="4525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348000" y="2437920"/>
                <a:ext cx="4525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800880" y="1981080"/>
                <a:ext cx="4525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348000" y="1981080"/>
                <a:ext cx="4525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800880" y="2437920"/>
                <a:ext cx="45252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3331440" y="2514600"/>
              <a:ext cx="46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92960" y="2057400"/>
              <a:ext cx="46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31440" y="2057400"/>
              <a:ext cx="46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46600" y="2057400"/>
              <a:ext cx="46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92960" y="2514600"/>
              <a:ext cx="46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438280" y="2446200"/>
            <a:ext cx="1828800" cy="1364400"/>
            <a:chOff x="2438280" y="2446200"/>
            <a:chExt cx="1828800" cy="1364400"/>
          </a:xfrm>
        </p:grpSpPr>
        <p:grpSp>
          <p:nvGrpSpPr>
            <p:cNvPr id="610" name=""/>
            <p:cNvGrpSpPr/>
            <p:nvPr/>
          </p:nvGrpSpPr>
          <p:grpSpPr>
            <a:xfrm>
              <a:off x="2455920" y="2446200"/>
              <a:ext cx="1810440" cy="1364400"/>
              <a:chOff x="2455920" y="2446200"/>
              <a:chExt cx="1810440" cy="1364400"/>
            </a:xfrm>
          </p:grpSpPr>
          <p:sp>
            <p:nvSpPr>
              <p:cNvPr id="611" name=""/>
              <p:cNvSpPr/>
              <p:nvPr/>
            </p:nvSpPr>
            <p:spPr>
              <a:xfrm>
                <a:off x="2455920" y="244620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08440" y="244620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08440" y="290088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361320" y="290088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61320" y="335592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813840" y="3355920"/>
                <a:ext cx="452520" cy="454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3809880" y="3428280"/>
              <a:ext cx="4572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52680" y="3428280"/>
              <a:ext cx="4572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52680" y="2964600"/>
              <a:ext cx="53352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95480" y="2964600"/>
              <a:ext cx="4572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95480" y="2500920"/>
              <a:ext cx="4572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38280" y="2500920"/>
              <a:ext cx="4572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795840" y="2449440"/>
            <a:ext cx="1828800" cy="1359720"/>
            <a:chOff x="3795840" y="2449440"/>
            <a:chExt cx="1828800" cy="1359720"/>
          </a:xfrm>
        </p:grpSpPr>
        <p:grpSp>
          <p:nvGrpSpPr>
            <p:cNvPr id="624" name=""/>
            <p:cNvGrpSpPr/>
            <p:nvPr/>
          </p:nvGrpSpPr>
          <p:grpSpPr>
            <a:xfrm>
              <a:off x="3816360" y="2449440"/>
              <a:ext cx="1807560" cy="1359720"/>
              <a:chOff x="3816360" y="2449440"/>
              <a:chExt cx="1807560" cy="1359720"/>
            </a:xfrm>
          </p:grpSpPr>
          <p:sp>
            <p:nvSpPr>
              <p:cNvPr id="625" name=""/>
              <p:cNvSpPr/>
              <p:nvPr/>
            </p:nvSpPr>
            <p:spPr>
              <a:xfrm>
                <a:off x="3816360" y="290268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68160" y="335592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68160" y="244944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172120" y="290268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20320" y="290268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68160" y="2902680"/>
                <a:ext cx="45180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4267080" y="34272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253040" y="25099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67440" y="29671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10240" y="29671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3040" y="29671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95840" y="29671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438280" y="2900520"/>
            <a:ext cx="914400" cy="1366200"/>
            <a:chOff x="2438280" y="2900520"/>
            <a:chExt cx="914400" cy="1366200"/>
          </a:xfrm>
        </p:grpSpPr>
        <p:grpSp>
          <p:nvGrpSpPr>
            <p:cNvPr id="638" name=""/>
            <p:cNvGrpSpPr/>
            <p:nvPr/>
          </p:nvGrpSpPr>
          <p:grpSpPr>
            <a:xfrm>
              <a:off x="2460600" y="2900520"/>
              <a:ext cx="891360" cy="1366200"/>
              <a:chOff x="2460600" y="2900520"/>
              <a:chExt cx="891360" cy="1366200"/>
            </a:xfrm>
          </p:grpSpPr>
          <p:sp>
            <p:nvSpPr>
              <p:cNvPr id="639" name=""/>
              <p:cNvSpPr/>
              <p:nvPr/>
            </p:nvSpPr>
            <p:spPr>
              <a:xfrm>
                <a:off x="2460600" y="2900520"/>
                <a:ext cx="444240" cy="4554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60600" y="3355920"/>
                <a:ext cx="444240" cy="4554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60600" y="3811320"/>
                <a:ext cx="444240" cy="4554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04840" y="3355920"/>
                <a:ext cx="447120" cy="4554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2438280" y="29718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38280" y="38098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38280" y="34290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95480" y="34290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724280" y="2895480"/>
            <a:ext cx="1828800" cy="1828080"/>
            <a:chOff x="4724280" y="2895480"/>
            <a:chExt cx="1828800" cy="1828080"/>
          </a:xfrm>
        </p:grpSpPr>
        <p:grpSp>
          <p:nvGrpSpPr>
            <p:cNvPr id="648" name=""/>
            <p:cNvGrpSpPr/>
            <p:nvPr/>
          </p:nvGrpSpPr>
          <p:grpSpPr>
            <a:xfrm>
              <a:off x="4724280" y="2895480"/>
              <a:ext cx="1828080" cy="1828080"/>
              <a:chOff x="4724280" y="2895480"/>
              <a:chExt cx="1828080" cy="1828080"/>
            </a:xfrm>
          </p:grpSpPr>
          <p:sp>
            <p:nvSpPr>
              <p:cNvPr id="649" name=""/>
              <p:cNvSpPr/>
              <p:nvPr/>
            </p:nvSpPr>
            <p:spPr>
              <a:xfrm>
                <a:off x="5638320" y="289548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095520" y="289548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638320" y="33523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81120" y="33523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24280" y="33523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638320" y="38095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181120" y="38095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38320" y="4266720"/>
                <a:ext cx="45684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5638680" y="29718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95880" y="29718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638680" y="34290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638680" y="38862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638680" y="426708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81480" y="34290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24280" y="34290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81480" y="38862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83280" y="3354480"/>
            <a:ext cx="914400" cy="1813680"/>
            <a:chOff x="6083280" y="3354480"/>
            <a:chExt cx="914400" cy="1813680"/>
          </a:xfrm>
        </p:grpSpPr>
        <p:grpSp>
          <p:nvGrpSpPr>
            <p:cNvPr id="666" name=""/>
            <p:cNvGrpSpPr/>
            <p:nvPr/>
          </p:nvGrpSpPr>
          <p:grpSpPr>
            <a:xfrm>
              <a:off x="6097320" y="3354480"/>
              <a:ext cx="899640" cy="1813680"/>
              <a:chOff x="6097320" y="3354480"/>
              <a:chExt cx="899640" cy="1813680"/>
            </a:xfrm>
          </p:grpSpPr>
          <p:sp>
            <p:nvSpPr>
              <p:cNvPr id="667" name=""/>
              <p:cNvSpPr/>
              <p:nvPr/>
            </p:nvSpPr>
            <p:spPr>
              <a:xfrm>
                <a:off x="6097320" y="3354480"/>
                <a:ext cx="44856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545880" y="3807720"/>
                <a:ext cx="45108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545880" y="4261320"/>
                <a:ext cx="45108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545880" y="4714920"/>
                <a:ext cx="45108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545880" y="3354480"/>
                <a:ext cx="451080" cy="4532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6540480" y="47880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40480" y="43308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40480" y="38736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83280" y="34164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540480" y="34164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5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476440" y="3822840"/>
            <a:ext cx="1317240" cy="1356480"/>
            <a:chOff x="2476440" y="3822840"/>
            <a:chExt cx="1317240" cy="1356480"/>
          </a:xfrm>
        </p:grpSpPr>
        <p:grpSp>
          <p:nvGrpSpPr>
            <p:cNvPr id="678" name=""/>
            <p:cNvGrpSpPr/>
            <p:nvPr/>
          </p:nvGrpSpPr>
          <p:grpSpPr>
            <a:xfrm>
              <a:off x="2476440" y="3822840"/>
              <a:ext cx="1316520" cy="1356480"/>
              <a:chOff x="2476440" y="3822840"/>
              <a:chExt cx="1316520" cy="1356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915280" y="3822840"/>
                <a:ext cx="438840" cy="4521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15280" y="4275000"/>
                <a:ext cx="438840" cy="4521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76440" y="4275000"/>
                <a:ext cx="438840" cy="4521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354120" y="4275000"/>
                <a:ext cx="438840" cy="4521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15280" y="4727160"/>
                <a:ext cx="438840" cy="4521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947680" y="4736880"/>
              <a:ext cx="461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332160" y="4279680"/>
              <a:ext cx="461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47680" y="4279680"/>
              <a:ext cx="461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86160" y="4279680"/>
              <a:ext cx="461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47680" y="3898800"/>
              <a:ext cx="461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352680" y="3809880"/>
            <a:ext cx="1371600" cy="1812240"/>
            <a:chOff x="3352680" y="3809880"/>
            <a:chExt cx="1371600" cy="1812240"/>
          </a:xfrm>
        </p:grpSpPr>
        <p:grpSp>
          <p:nvGrpSpPr>
            <p:cNvPr id="690" name=""/>
            <p:cNvGrpSpPr/>
            <p:nvPr/>
          </p:nvGrpSpPr>
          <p:grpSpPr>
            <a:xfrm>
              <a:off x="3352680" y="3809880"/>
              <a:ext cx="1365120" cy="1812240"/>
              <a:chOff x="3352680" y="3809880"/>
              <a:chExt cx="1365120" cy="1812240"/>
            </a:xfrm>
          </p:grpSpPr>
          <p:sp>
            <p:nvSpPr>
              <p:cNvPr id="691" name=""/>
              <p:cNvSpPr/>
              <p:nvPr/>
            </p:nvSpPr>
            <p:spPr>
              <a:xfrm>
                <a:off x="3352680" y="380988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807720" y="471600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807720" y="426276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807720" y="516924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262760" y="380988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807720" y="3809880"/>
                <a:ext cx="455040" cy="4528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3809880" y="5175360"/>
              <a:ext cx="4572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97280" y="4770720"/>
              <a:ext cx="4572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25720" y="4309200"/>
              <a:ext cx="4572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67080" y="3862080"/>
              <a:ext cx="4572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09880" y="3873240"/>
              <a:ext cx="5335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352680" y="3885840"/>
              <a:ext cx="4572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724280" y="3809880"/>
            <a:ext cx="1371600" cy="1370880"/>
            <a:chOff x="4724280" y="3809880"/>
            <a:chExt cx="1371600" cy="1370880"/>
          </a:xfrm>
        </p:grpSpPr>
        <p:grpSp>
          <p:nvGrpSpPr>
            <p:cNvPr id="704" name=""/>
            <p:cNvGrpSpPr/>
            <p:nvPr/>
          </p:nvGrpSpPr>
          <p:grpSpPr>
            <a:xfrm>
              <a:off x="4724280" y="3809880"/>
              <a:ext cx="1370880" cy="1370880"/>
              <a:chOff x="4724280" y="3809880"/>
              <a:chExt cx="1370880" cy="1370880"/>
            </a:xfrm>
          </p:grpSpPr>
          <p:sp>
            <p:nvSpPr>
              <p:cNvPr id="705" name=""/>
              <p:cNvSpPr/>
              <p:nvPr/>
            </p:nvSpPr>
            <p:spPr>
              <a:xfrm>
                <a:off x="4724280" y="3809880"/>
                <a:ext cx="4557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724280" y="4266720"/>
                <a:ext cx="4557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180040" y="4266720"/>
                <a:ext cx="4557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180040" y="4723920"/>
                <a:ext cx="4557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635800" y="4723920"/>
                <a:ext cx="459360" cy="4568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4724280" y="38862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24280" y="43434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638680" y="472428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81480" y="472428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81480" y="43434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267080" y="4267080"/>
            <a:ext cx="1371600" cy="1350360"/>
            <a:chOff x="4267080" y="4267080"/>
            <a:chExt cx="1371600" cy="1350360"/>
          </a:xfrm>
        </p:grpSpPr>
        <p:grpSp>
          <p:nvGrpSpPr>
            <p:cNvPr id="716" name=""/>
            <p:cNvGrpSpPr/>
            <p:nvPr/>
          </p:nvGrpSpPr>
          <p:grpSpPr>
            <a:xfrm>
              <a:off x="4267080" y="4267080"/>
              <a:ext cx="1352160" cy="1350360"/>
              <a:chOff x="4267080" y="4267080"/>
              <a:chExt cx="1352160" cy="1350360"/>
            </a:xfrm>
          </p:grpSpPr>
          <p:sp>
            <p:nvSpPr>
              <p:cNvPr id="717" name=""/>
              <p:cNvSpPr/>
              <p:nvPr/>
            </p:nvSpPr>
            <p:spPr>
              <a:xfrm>
                <a:off x="4267080" y="426708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267080" y="471708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267080" y="516744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717800" y="516744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168520" y="516744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717800" y="4717080"/>
                <a:ext cx="450720" cy="4500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5181480" y="517284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24280" y="517284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24280" y="471996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67080" y="517284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67080" y="471996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67080" y="4342680"/>
              <a:ext cx="457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2465280" y="4738680"/>
            <a:ext cx="1346400" cy="891360"/>
            <a:chOff x="2465280" y="4738680"/>
            <a:chExt cx="1346400" cy="891360"/>
          </a:xfrm>
        </p:grpSpPr>
        <p:grpSp>
          <p:nvGrpSpPr>
            <p:cNvPr id="730" name=""/>
            <p:cNvGrpSpPr/>
            <p:nvPr/>
          </p:nvGrpSpPr>
          <p:grpSpPr>
            <a:xfrm>
              <a:off x="2465280" y="4738680"/>
              <a:ext cx="1318680" cy="891360"/>
              <a:chOff x="2465280" y="4738680"/>
              <a:chExt cx="1318680" cy="891360"/>
            </a:xfrm>
          </p:grpSpPr>
          <p:sp>
            <p:nvSpPr>
              <p:cNvPr id="731" name=""/>
              <p:cNvSpPr/>
              <p:nvPr/>
            </p:nvSpPr>
            <p:spPr>
              <a:xfrm>
                <a:off x="2465280" y="4738680"/>
                <a:ext cx="439560" cy="445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465280" y="5184360"/>
                <a:ext cx="439560" cy="445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904840" y="5184360"/>
                <a:ext cx="439560" cy="445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344400" y="5184360"/>
                <a:ext cx="439560" cy="445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344400" y="4738680"/>
                <a:ext cx="439560" cy="4456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3327480" y="4738680"/>
              <a:ext cx="457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54480" y="5221080"/>
              <a:ext cx="457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08440" y="5208480"/>
              <a:ext cx="457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89040" y="5195520"/>
              <a:ext cx="457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89040" y="4738680"/>
              <a:ext cx="457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5613480" y="3811680"/>
            <a:ext cx="1384920" cy="1797840"/>
            <a:chOff x="5613480" y="3811680"/>
            <a:chExt cx="1384920" cy="1797840"/>
          </a:xfrm>
        </p:grpSpPr>
        <p:grpSp>
          <p:nvGrpSpPr>
            <p:cNvPr id="742" name=""/>
            <p:cNvGrpSpPr/>
            <p:nvPr/>
          </p:nvGrpSpPr>
          <p:grpSpPr>
            <a:xfrm>
              <a:off x="5621400" y="3811680"/>
              <a:ext cx="1376640" cy="1797840"/>
              <a:chOff x="5621400" y="3811680"/>
              <a:chExt cx="1376640" cy="1797840"/>
            </a:xfrm>
          </p:grpSpPr>
          <p:sp>
            <p:nvSpPr>
              <p:cNvPr id="743" name=""/>
              <p:cNvSpPr/>
              <p:nvPr/>
            </p:nvSpPr>
            <p:spPr>
              <a:xfrm>
                <a:off x="6078240" y="3811680"/>
                <a:ext cx="45972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078240" y="4260960"/>
                <a:ext cx="45972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078240" y="4710600"/>
                <a:ext cx="45972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078240" y="5160240"/>
                <a:ext cx="45972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538320" y="5160240"/>
                <a:ext cx="45972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621400" y="5160240"/>
                <a:ext cx="456840" cy="449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6075000" y="3878280"/>
              <a:ext cx="4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75000" y="4335480"/>
              <a:ext cx="4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7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85080" y="4761000"/>
              <a:ext cx="459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8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613480" y="5173560"/>
              <a:ext cx="4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75000" y="5173560"/>
              <a:ext cx="4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36880" y="5173560"/>
              <a:ext cx="4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09:19:01Z</dcterms:created>
  <dc:creator>Maria Giovanna Rocca</dc:creator>
  <dc:description/>
  <dc:language>en-US</dc:language>
  <cp:lastModifiedBy>Maria Giovanna Rocca</cp:lastModifiedBy>
  <dcterms:modified xsi:type="dcterms:W3CDTF">2003-11-09T14:35:50Z</dcterms:modified>
  <cp:revision>6</cp:revision>
  <dc:subject/>
  <dc:title>Presentazione di PowerPoint</dc:title>
</cp:coreProperties>
</file>